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EB4B-04E8-44C5-9A05-C4F2C4CE20E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E795-A3E7-454E-8369-A745FA56C8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rea of diffusion research demonstrates the s-curve of adoption. Plotting the cumulative number of adopters over time usually follows a s-curve. This graphic representation shows the speed of adoption which begins slowly as early adopters immediately accept the innovation . Then, it accelerates to maximum growth as the early majority interact with one another to gradually adopt innovations. Finally, the curve tapers off as late adopters make the decision to adopt after the innovation has achieved sustained recognition (Rogers, 2003).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32AE3-05EE-4E5A-BCF8-C5AA668D53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urve represents the rate of adoption for wikispaces, a free site on the internet for educators that provides a wiki service without ads specifically for educators. The rate of adoption for wikis is virtually impossible to assess due to the overwhelming response to Ward’s first wiki. According to WikiMatrix (2009), there are currently over 100 wiki engines on the internet with an immeasurable number of wiki pages and viewers. Therefore, I chose to study the site, Wikispaces, since this is the engine that I will use to diffuse classroom wikis into our elementary school. I chose Wikispaces because it is one of the only sites that supports the K-12 environment by providing  maximum privacy, no advertising, and upgraded features at no cost. Additionally, I am familiar with the tools as I have created several learning communities using Wikispaces software. The cumulative data  of the number of wiki pages represents the rate of adoption since the introduction of Wikispaces in 2005. The creators began with 5000 spaces in 2005 (“Wikispaces on CNET,” 2005). In 2006, the company doubled the number of pages to 10,000 spaces just for educators (Frey, 2006). In 2007, the rate of wiki pages quickly accelerated to over 390,000 (Byers, 2008). The data for the year of 2008 showed exemplary approval with over 900,000 wikis, with 100,000 of these classified as K-12 classroom wikis (Byers, 2009). Currently, the data represents over 1,000,000 wiki pages. The official 2009 data will not be released until March 2010. The rate of adoption for wiki pages on Wikispaces follows the normal s-curve with a few early adopters in the beginnings of implementation, followed by a steady increase over a few years. Now, the curve shows the wikispaces tapering off, however, this is not an accurate representation of the rate of adoption since final data for 2009 will not be available for 8 months. However, the graph demonstrates how the early majority are bringing the curve to its maximum potential. This evidence shows that Wikispaces has matured as a successful innovation and can safely be diffused into our educational setting.  It is also demonstration to the possibility that a new development in wiki software is about to transpire as many innovations enter as older ones reach maturity (Thornburg, 2008).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5, November 15). </a:t>
            </a:r>
            <a:r>
              <a:rPr b="0" i="1" lang="en-US" sz="1200" spc="-1" strike="noStrike">
                <a:solidFill>
                  <a:srgbClr val="000000"/>
                </a:solidFill>
                <a:latin typeface="Calibri"/>
              </a:rPr>
              <a:t>Wikispaces on CNET</a:t>
            </a:r>
            <a:r>
              <a:rPr b="0" lang="en-US" sz="1200" spc="-1" strike="noStrike">
                <a:solidFill>
                  <a:srgbClr val="000000"/>
                </a:solidFill>
                <a:latin typeface="Calibri"/>
              </a:rPr>
              <a:t>. Message posted to http://blog.wikispaces.com/2005/11</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8, March 31). </a:t>
            </a:r>
            <a:r>
              <a:rPr b="0" i="1" lang="en-US" sz="1200" spc="-1" strike="noStrike">
                <a:solidFill>
                  <a:srgbClr val="000000"/>
                </a:solidFill>
                <a:latin typeface="Calibri"/>
              </a:rPr>
              <a:t>Wikispaces turns three</a:t>
            </a:r>
            <a:r>
              <a:rPr b="0" lang="en-US" sz="1200" spc="-1" strike="noStrike">
                <a:solidFill>
                  <a:srgbClr val="000000"/>
                </a:solidFill>
                <a:latin typeface="Calibri"/>
              </a:rPr>
              <a:t>. Message posted to http://blog.wikispaces.com/2008/03/wikispaces-turns-three.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9, March 18). </a:t>
            </a:r>
            <a:r>
              <a:rPr b="0" i="1" lang="en-US" sz="1200" spc="-1" strike="noStrike">
                <a:solidFill>
                  <a:srgbClr val="000000"/>
                </a:solidFill>
                <a:latin typeface="Calibri"/>
              </a:rPr>
              <a:t>Wikispaces birthday week: Site statistics</a:t>
            </a:r>
            <a:r>
              <a:rPr b="0" lang="en-US" sz="1200" spc="-1" strike="noStrike">
                <a:solidFill>
                  <a:srgbClr val="000000"/>
                </a:solidFill>
                <a:latin typeface="Calibri"/>
              </a:rPr>
              <a:t>. Message posted to http://blog.wikispaces.com/2009/03/wikispaces-birthday-site-statistics.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y, A. (2006, September 7). </a:t>
            </a:r>
            <a:r>
              <a:rPr b="0" i="1" lang="en-US" sz="1200" spc="-1" strike="noStrike">
                <a:solidFill>
                  <a:srgbClr val="000000"/>
                </a:solidFill>
                <a:latin typeface="Calibri"/>
              </a:rPr>
              <a:t>100,000 wikis in the classroom.</a:t>
            </a:r>
            <a:r>
              <a:rPr b="0" lang="en-US" sz="1200" spc="-1" strike="noStrike">
                <a:solidFill>
                  <a:srgbClr val="000000"/>
                </a:solidFill>
                <a:latin typeface="Calibri"/>
              </a:rPr>
              <a:t> Message posted to http://blog.wikispaces.com/2006/09/100000-wikis-in-classroom.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rnburg, D. (2008). </a:t>
            </a:r>
            <a:r>
              <a:rPr b="0" i="1" lang="en-US" sz="1200" spc="-1" strike="noStrike">
                <a:solidFill>
                  <a:srgbClr val="000000"/>
                </a:solidFill>
                <a:latin typeface="Calibri"/>
              </a:rPr>
              <a:t>S-curve </a:t>
            </a:r>
            <a:r>
              <a:rPr b="0" lang="en-US" sz="1200" spc="-1" strike="noStrike">
                <a:solidFill>
                  <a:srgbClr val="000000"/>
                </a:solidFill>
                <a:latin typeface="Calibri"/>
              </a:rPr>
              <a:t>[DVD]. Laureate Education, In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Matrix. (2009). </a:t>
            </a:r>
            <a:r>
              <a:rPr b="0" i="1" lang="en-US" sz="1200" spc="-1" strike="noStrike">
                <a:solidFill>
                  <a:srgbClr val="000000"/>
                </a:solidFill>
                <a:latin typeface="Calibri"/>
              </a:rPr>
              <a:t>The wiki statistics</a:t>
            </a:r>
            <a:r>
              <a:rPr b="0" lang="en-US" sz="1200" spc="-1" strike="noStrike">
                <a:solidFill>
                  <a:srgbClr val="000000"/>
                </a:solidFill>
                <a:latin typeface="Calibri"/>
              </a:rPr>
              <a:t>. Retrieved July 8, 2009, from http://www.wikimatrix.org/statistics.ph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91BA-C714-4242-9D41-7CF4DB078A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05F1-F83D-43ED-9F44-5B1B195D2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D9BC1-8454-4DD3-83DD-4D3E28356B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D1C2C-8B5E-489C-B2FC-D1E3CCDA5D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0F75-52A9-4E99-A788-5A14E20BEF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3B27-19B8-4F01-BB2D-2D0575BFDD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561BC-5D2A-43E6-A8F7-E98396DE1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1041-AFD2-488E-B74D-07654D65A4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F03D-1AD3-426C-AA57-1384598A95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4567E-622B-448B-8246-BED10A621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68E11-C3F0-48AF-9EFD-DE39D6564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FDD17-9C90-4BF5-BEB5-998DB535E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8C2CE-D79F-4590-8C15-7DB2C9E4A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DA870E-65E6-4407-9593-83EC361BE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409CC-18B2-4419-8934-BAC8A19E1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B3065-F6F2-4F9D-9B56-26084F87C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33BCE-EF23-44DA-84D0-BB0D68057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63D89-B54B-4216-8378-29D5DF3C1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769AE-DFA2-4A87-B172-D720115D67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8D7C5-B437-497B-AF40-67DED399E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E32B7-C5CD-4FBA-8275-574EC75A8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74CF4-46A5-4B38-BB7E-CA59A6E44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1ACC1-F038-44DD-9EDB-7F4D85D1A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402E9-8746-4D89-9BAD-63A3BC10E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5B1A1-4A47-4525-B370-19D7D1917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1B468-38E3-491B-8946-9C501C9FF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85F54F-8281-4AE9-9110-9E8B037D9A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4ADCD-B2FE-4883-9C3F-D4010A479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C14E4-364E-4DD1-86E7-867E531253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F9787-3CF2-4383-BE65-BA6556130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8D23A-1328-4100-AC3C-DE5E205DF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36FBF-BF43-42F5-A64E-C87C31036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8A5174-1C00-41FB-BD94-7C89159680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2E005A-601A-4527-9E9C-0AA712AA4D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D0B60-10AD-462C-85A5-07B043F1A5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4AFE01-CEFA-4101-BC98-2180D1CEE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A8C69-E0DD-4AE4-B2EF-0730DED72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B5659E-8C5F-42C4-B5E5-A909B71860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2F560F-6CDF-4317-BA2A-DF34A6AB1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38AC2B-D294-4A55-BD06-FA785F042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453B8C-B373-4E64-91E6-D1143444AB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4C202-111B-4571-A134-093D6FD23B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DA1F2-254A-45EF-A144-FFDAA5267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FD5D28-D0B3-43B8-A90C-BDA8E898E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7541C8-9DA4-434B-A234-95AEB039A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08ED18-A982-4AA5-97D9-8C18937A5D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D198F-E5C0-402E-8C16-17A98D970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13E81F-4988-4756-B623-7D071EE6B6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8A9A5E-D6CD-46DB-917D-BE44BC3C51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5F781E-2A29-4B5A-8F49-6EFF43AA16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670915-9CF9-4676-9955-7250C82554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58D451-FD98-47EE-A37F-AEE4CBAFBD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E2F125-0580-44D3-BD15-EE4AE582B5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3D956-0616-4635-8FD4-8937B4207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6A068E-5533-4EA2-BF54-65D96A64E1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74951-C01A-4D12-8DEA-7DBDFD44B7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F25951-578E-4481-B6B9-63980949B2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8A0D20-9515-4CAB-BC91-8D5279747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BCB643-4121-4E1B-8D93-B01FFF2949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02973-09FE-4487-BA8F-6E5F0A0AB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E7CDDE-6E99-463E-B171-D1D7636D7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5BAD1C-FE09-4A9D-ADCD-A3C571658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BC730A-388E-45E5-B3C7-89565E78E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595D83-86EE-428E-B966-11379D406A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B1559-E685-475B-BC88-F522E158C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E545D6-A355-491F-AD7E-7FF3907FE0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9555A-D6A4-47F1-AAEB-AB2047FD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5257E-A9CC-4920-8ACB-55ADFB062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24084-E8E7-4CD2-B2DF-8C87163E1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9CFED-AF62-4895-8B46-886F0883FB0F}"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31E5-1D87-4265-A912-E6E63F9DC9D2}"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25AC-67B4-4F35-A603-64CBA69DCF6D}"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9FA06-7559-442B-83A3-67B5F97D549B}"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E1FC-8940-4199-A0E8-6445C4073993}"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2.com/cgi/wiki"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700440"/>
            <a:ext cx="435924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Slide</a:t>
            </a:r>
            <a:endParaRPr b="1" lang="en-US" sz="3200" spc="-1" strike="noStrike">
              <a:solidFill>
                <a:srgbClr val="6594da"/>
              </a:solidFill>
              <a:latin typeface="Verdana"/>
            </a:endParaRPr>
          </a:p>
        </p:txBody>
      </p:sp>
      <p:pic>
        <p:nvPicPr>
          <p:cNvPr id="263" name="Picture 6" descr="C:\Users\MVining\AppData\Local\Microsoft\Windows\Temporary Internet Files\Content.IE5\PX3EPJO7\MCj04348600000[1].png"/>
          <p:cNvPicPr/>
          <p:nvPr/>
        </p:nvPicPr>
        <p:blipFill>
          <a:blip r:embed="rId1"/>
          <a:stretch/>
        </p:blipFill>
        <p:spPr>
          <a:xfrm>
            <a:off x="6629400" y="3581280"/>
            <a:ext cx="2228760" cy="2229120"/>
          </a:xfrm>
          <a:prstGeom prst="rect">
            <a:avLst/>
          </a:prstGeom>
          <a:ln w="0">
            <a:noFill/>
          </a:ln>
        </p:spPr>
      </p:pic>
      <p:pic>
        <p:nvPicPr>
          <p:cNvPr id="264" name="Picture 2" descr="S-curve of Innovation Adoption by Mr. Sheehy."/>
          <p:cNvPicPr/>
          <p:nvPr/>
        </p:nvPicPr>
        <p:blipFill>
          <a:blip r:embed="rId2"/>
          <a:stretch/>
        </p:blipFill>
        <p:spPr>
          <a:xfrm>
            <a:off x="762120" y="914400"/>
            <a:ext cx="4543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Curve of Wikispaces</a:t>
            </a:r>
            <a:endParaRPr b="1" lang="en-US" sz="3600" spc="-1" strike="noStrike">
              <a:solidFill>
                <a:srgbClr val="6594da"/>
              </a:solidFill>
              <a:latin typeface="Verdana"/>
            </a:endParaRPr>
          </a:p>
        </p:txBody>
      </p:sp>
      <p:pic>
        <p:nvPicPr>
          <p:cNvPr id="266"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4" name="Content Placeholder 3" descr=""/>
          <p:cNvPicPr/>
          <p:nvPr/>
        </p:nvPicPr>
        <p:blipFill>
          <a:blip r:embed="rId1"/>
          <a:stretch/>
        </p:blipFill>
        <p:spPr>
          <a:xfrm>
            <a:off x="450720" y="633240"/>
            <a:ext cx="8259840" cy="422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3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39"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0"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2"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3"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4"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6"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48"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49"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1" name="Content Placeholder 6" descr=""/>
          <p:cNvPicPr/>
          <p:nvPr/>
        </p:nvPicPr>
        <p:blipFill>
          <a:blip r:embed="rId1"/>
          <a:stretch/>
        </p:blipFill>
        <p:spPr>
          <a:xfrm>
            <a:off x="487440" y="523800"/>
            <a:ext cx="8211960" cy="4200480"/>
          </a:xfrm>
          <a:prstGeom prst="rect">
            <a:avLst/>
          </a:prstGeom>
          <a:ln w="0">
            <a:noFill/>
          </a:ln>
        </p:spPr>
      </p:pic>
      <p:sp>
        <p:nvSpPr>
          <p:cNvPr id="252"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2"/>
              </a:rPr>
              <a:t>1995</a:t>
            </a:r>
            <a:endParaRPr b="0" lang="en-US" sz="1400" spc="-1" strike="noStrike">
              <a:solidFill>
                <a:srgbClr val="000000"/>
              </a:solidFill>
              <a:latin typeface="Arial"/>
            </a:endParaRPr>
          </a:p>
        </p:txBody>
      </p:sp>
      <p:sp>
        <p:nvSpPr>
          <p:cNvPr id="253"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000000"/>
              </a:solidFill>
              <a:latin typeface="Arial"/>
            </a:endParaRPr>
          </a:p>
        </p:txBody>
      </p:sp>
      <p:sp>
        <p:nvSpPr>
          <p:cNvPr id="254"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5"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6"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57"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58" name="Picture 3" descr="C:\Users\MVining\AppData\Local\Microsoft\Windows\Temporary Internet Files\Content.IE5\UM6981SC\MPj04393500000[1].jpg"/>
          <p:cNvPicPr/>
          <p:nvPr/>
        </p:nvPicPr>
        <p:blipFill>
          <a:blip r:embed="rId3"/>
          <a:stretch/>
        </p:blipFill>
        <p:spPr>
          <a:xfrm>
            <a:off x="7696080" y="4648320"/>
            <a:ext cx="838440" cy="838080"/>
          </a:xfrm>
          <a:prstGeom prst="rect">
            <a:avLst/>
          </a:prstGeom>
          <a:ln w="0">
            <a:noFill/>
          </a:ln>
        </p:spPr>
      </p:pic>
      <p:grpSp>
        <p:nvGrpSpPr>
          <p:cNvPr id="259" name="Rounded Rectangular Callout 28"/>
          <p:cNvGrpSpPr/>
          <p:nvPr/>
        </p:nvGrpSpPr>
        <p:grpSpPr>
          <a:xfrm>
            <a:off x="7156440" y="3614760"/>
            <a:ext cx="1457280" cy="1103400"/>
            <a:chOff x="7156440" y="3614760"/>
            <a:chExt cx="1457280" cy="1103400"/>
          </a:xfrm>
        </p:grpSpPr>
        <p:pic>
          <p:nvPicPr>
            <p:cNvPr id="260" name="Rounded Rectangular Callout 28" descr=""/>
            <p:cNvPicPr/>
            <p:nvPr/>
          </p:nvPicPr>
          <p:blipFill>
            <a:blip r:embed="rId4"/>
            <a:stretch/>
          </p:blipFill>
          <p:spPr>
            <a:xfrm>
              <a:off x="7156440" y="3614760"/>
              <a:ext cx="1457280" cy="1103400"/>
            </a:xfrm>
            <a:prstGeom prst="rect">
              <a:avLst/>
            </a:prstGeom>
            <a:ln w="0">
              <a:noFill/>
            </a:ln>
          </p:spPr>
        </p:pic>
        <p:sp>
          <p:nvSpPr>
            <p:cNvPr id="261"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09T02:32:10Z</dcterms:modified>
  <cp:revision>78</cp:revision>
  <dc:subject/>
  <dc:title>Slide 1</dc:title>
</cp:coreProperties>
</file>